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ct" ContentType="image/x-pict"/>
  <Override PartName="/ppt/media/image3.jpeg" ContentType="image/jpeg"/>
  <Override PartName="/ppt/media/image4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8A11-5B09-47D3-8DF6-0F37DBF22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8764-90C9-4084-95BE-DE1ABF4CD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679F-6A04-4018-BF17-07B2417EE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8A7A-4AAF-41DC-9CAF-81AF64B51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B5169-F524-476A-8874-AF9B8A659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EC95F-F428-444C-B899-A11D3F5E2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DFB8A-21AB-430B-83BE-AB51D8B5A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09F9E-B751-4DFB-802F-687079416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55898-C9C7-4E17-84A0-2C25D00C6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2CA8A-83EF-445D-AE14-42A9AD5A2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DBD20-85B5-4A0F-BE04-8BF32457B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CF9C-8E02-4204-81AF-367C266B9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07AF2-6F2F-400B-8876-8D08A0824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90604-310E-4358-B8E3-130FA30C9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F4363-78B9-4D72-8147-181084AAD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FC2B6-5650-4967-817B-8C5D4E787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E1A84-B73E-4B86-862C-3F0A55B6B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206D-64AE-4782-8BD8-ACD2825C0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C351-9F66-402E-B945-7E2D06594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C7A8-8024-4D91-B903-8897600A2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1FDF-C36A-4437-9D95-EE5952CCD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28E0-DC8B-4561-805D-408383DE2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2DAB-29E4-4540-9B41-8BFFA9E8C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D54A-CA2E-4E2B-9256-A493B6AF8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BD3AE-B4AB-4DA7-A2B1-2B1FB576D97B}" type="slidenum">
              <a:rPr b="0" lang="en-US" sz="1400" spc="-1" strike="noStrike">
                <a:solidFill>
                  <a:srgbClr val="000000"/>
                </a:solidFill>
                <a:latin typeface="Century Gothic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36200" y="1752120"/>
            <a:ext cx="5867640" cy="26672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124AB-DA6D-41D4-87EA-E92CADE98DCE}" type="slidenum">
              <a:rPr b="0" lang="en-US" sz="1400" spc="-1" strike="noStrike">
                <a:solidFill>
                  <a:srgbClr val="000000"/>
                </a:solidFill>
                <a:latin typeface="Century Gothic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pct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3124080" y="1676520"/>
            <a:ext cx="2667240" cy="43434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2895480" y="594360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ntasticfiction.co.u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295280" y="838080"/>
            <a:ext cx="645156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Otherwise  Know  as  Sheila  the  Great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4" name=""/>
          <p:cNvSpPr txBox="1"/>
          <p:nvPr/>
        </p:nvSpPr>
        <p:spPr>
          <a:xfrm rot="5400000">
            <a:off x="-1361520" y="2961360"/>
            <a:ext cx="443736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325e53"/>
                    </a:gs>
                    <a:gs pos="50000">
                      <a:srgbClr val="6eccb6"/>
                    </a:gs>
                    <a:gs pos="100000">
                      <a:srgbClr val="325e53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By: Judy Blume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325e53"/>
                  </a:gs>
                  <a:gs pos="50000">
                    <a:srgbClr val="6eccb6"/>
                  </a:gs>
                  <a:gs pos="100000">
                    <a:srgbClr val="325e53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5" name=""/>
          <p:cNvSpPr txBox="1"/>
          <p:nvPr/>
        </p:nvSpPr>
        <p:spPr>
          <a:xfrm rot="5400000">
            <a:off x="5434920" y="3327480"/>
            <a:ext cx="5638680" cy="5079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3366"/>
                </a:solidFill>
                <a:effectLst>
                  <a:outerShdw dist="53966" dir="2700000" blurRad="0" rotWithShape="0">
                    <a:srgbClr val="cbcbcb"/>
                  </a:outerShdw>
                </a:effectLst>
                <a:latin typeface="Times New Roman"/>
              </a:rPr>
              <a:t>power piont made by: Marleen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003366"/>
              </a:solidFill>
              <a:effectLst>
                <a:outerShdw dist="53966" dir="2700000" blurRad="0" rotWithShape="0">
                  <a:srgbClr val="cbcbcb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1600200" y="14479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aettenschweiler"/>
              </a:rPr>
              <a:t>Sheila - liar, not talented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aettenschweiler"/>
              </a:rPr>
              <a:t>Mouse - Very talented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aettenschweiler"/>
              </a:rPr>
              <a:t>Sheila’s parents - very nice, caring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aettenschweiler"/>
              </a:rPr>
              <a:t>Libby (Sheila’s sister) - thinks she’s so beautifu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aettenschweiler"/>
              </a:rPr>
              <a:t>Jennifer (The dog)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828800" y="1066680"/>
            <a:ext cx="29210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03f75"/>
                    </a:gs>
                    <a:gs pos="50000">
                      <a:srgbClr val="6a89ff"/>
                    </a:gs>
                    <a:gs pos="100000">
                      <a:srgbClr val="303f75"/>
                    </a:gs>
                  </a:gsLst>
                  <a:lin ang="5400000"/>
                </a:gradFill>
                <a:latin typeface="Arial Black"/>
              </a:rPr>
              <a:t>Characters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03f75"/>
                  </a:gs>
                  <a:gs pos="50000">
                    <a:srgbClr val="6a89ff"/>
                  </a:gs>
                  <a:gs pos="100000">
                    <a:srgbClr val="303f75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" dur="10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2362320" y="17524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aettenschweiler"/>
              </a:rPr>
              <a:t>City where Sheila lives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aettenschweiler"/>
              </a:rPr>
              <a:t>Summer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aettenschweiler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aettenschweiler"/>
              </a:rPr>
              <a:t>Egran’s house in Tarrytown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2971800" y="914400"/>
            <a:ext cx="18032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561b4e"/>
                    </a:gs>
                    <a:gs pos="50000">
                      <a:srgbClr val="bc3baa"/>
                    </a:gs>
                    <a:gs pos="100000">
                      <a:srgbClr val="561b4e"/>
                    </a:gs>
                  </a:gsLst>
                  <a:lin ang="5400000"/>
                </a:gradFill>
                <a:latin typeface="Arial Black"/>
              </a:rPr>
              <a:t>Setting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561b4e"/>
                  </a:gs>
                  <a:gs pos="50000">
                    <a:srgbClr val="bc3baa"/>
                  </a:gs>
                  <a:gs pos="100000">
                    <a:srgbClr val="561b4e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1371600" y="2209320"/>
            <a:ext cx="6781680" cy="22100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aettenschweiler"/>
              </a:rPr>
              <a:t>Sheila is scared of swimming and cannot swim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aettenschweiler"/>
              </a:rPr>
              <a:t>Sheila is scared of dogs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2971800" y="914400"/>
            <a:ext cx="24638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484275"/>
                    </a:gs>
                    <a:gs pos="50000">
                      <a:srgbClr val="9d91ff"/>
                    </a:gs>
                    <a:gs pos="100000">
                      <a:srgbClr val="484275"/>
                    </a:gs>
                  </a:gsLst>
                  <a:lin ang="5400000"/>
                </a:gradFill>
                <a:latin typeface="Arial Black"/>
              </a:rPr>
              <a:t>Problem</a:t>
            </a:r>
            <a:endParaRPr b="0" lang="en-US" sz="2400" spc="1" strike="noStrike">
              <a:ln w="936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484275"/>
                  </a:gs>
                  <a:gs pos="50000">
                    <a:srgbClr val="9d91ff"/>
                  </a:gs>
                  <a:gs pos="100000">
                    <a:srgbClr val="484275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371600" y="17524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heila takes swimming lesson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heila put her face face in water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heila could swim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447920" y="838080"/>
            <a:ext cx="35049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679741"/>
                  </a:solidFill>
                  <a:miter/>
                </a:ln>
                <a:gradFill rotWithShape="0">
                  <a:gsLst>
                    <a:gs pos="0">
                      <a:srgbClr val="665975"/>
                    </a:gs>
                    <a:gs pos="50000">
                      <a:srgbClr val="dec3ff"/>
                    </a:gs>
                    <a:gs pos="100000">
                      <a:srgbClr val="665975"/>
                    </a:gs>
                  </a:gsLst>
                  <a:lin ang="5400000"/>
                </a:gradFill>
                <a:latin typeface="Arial Black"/>
              </a:rPr>
              <a:t>1 Main Events</a:t>
            </a:r>
            <a:endParaRPr b="0" lang="en-US" sz="2400" spc="1" strike="noStrike">
              <a:ln w="9360">
                <a:solidFill>
                  <a:srgbClr val="679741"/>
                </a:solidFill>
                <a:miter/>
              </a:ln>
              <a:gradFill rotWithShape="0">
                <a:gsLst>
                  <a:gs pos="0">
                    <a:srgbClr val="665975"/>
                  </a:gs>
                  <a:gs pos="50000">
                    <a:srgbClr val="dec3ff"/>
                  </a:gs>
                  <a:gs pos="100000">
                    <a:srgbClr val="665975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5" dur="2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0" dur="2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5" dur="2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0" dur="20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heila is scared of dogs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heila goes near Jennifer and then is now not scared of dogs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066680" y="914400"/>
            <a:ext cx="35053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ff66"/>
                  </a:solidFill>
                  <a:miter/>
                </a:ln>
                <a:solidFill>
                  <a:srgbClr val="003366"/>
                </a:solidFill>
                <a:latin typeface="Arial Black"/>
              </a:rPr>
              <a:t>2 Main Events</a:t>
            </a:r>
            <a:endParaRPr b="0" lang="en-US" sz="2400" spc="1" strike="noStrike">
              <a:ln w="9360">
                <a:solidFill>
                  <a:srgbClr val="ccff66"/>
                </a:solidFill>
                <a:miter/>
              </a:ln>
              <a:solidFill>
                <a:srgbClr val="003366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7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2" dur="2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aettenschweiler"/>
              </a:rPr>
              <a:t>When something is hard, you should put more effort learn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aettenschweiler"/>
              </a:rPr>
              <a:t>Ask for help when something is really hard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2438280" y="914400"/>
            <a:ext cx="44704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6fcf"/>
                  </a:solidFill>
                  <a:miter/>
                </a:ln>
                <a:solidFill>
                  <a:srgbClr val="008080"/>
                </a:solidFill>
                <a:latin typeface="Arial Black"/>
              </a:rPr>
              <a:t>Author’s message</a:t>
            </a:r>
            <a:endParaRPr b="0" lang="en-US" sz="2400" spc="1" strike="noStrike">
              <a:ln w="9360">
                <a:solidFill>
                  <a:srgbClr val="ff6fcf"/>
                </a:solidFill>
                <a:miter/>
              </a:ln>
              <a:solidFill>
                <a:srgbClr val="00808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7339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cKids"/>
              </a:rPr>
              <a:t>Tales </a:t>
            </a:r>
            <a:r>
              <a:rPr b="0" lang="en-US" sz="2800" spc="-1" strike="noStrike">
                <a:solidFill>
                  <a:srgbClr val="000000"/>
                </a:solidFill>
                <a:latin typeface="cusrs"/>
              </a:rPr>
              <a:t>of a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bcKids"/>
              </a:rPr>
              <a:t>Fourth Grade Nothing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cKids"/>
              </a:rPr>
              <a:t>Double Fudge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cKids"/>
              </a:rPr>
              <a:t>Fudge-</a:t>
            </a:r>
            <a:r>
              <a:rPr b="0" lang="en-US" sz="2800" spc="-1" strike="noStrike">
                <a:solidFill>
                  <a:srgbClr val="000000"/>
                </a:solidFill>
                <a:latin typeface="cusr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bcKids"/>
              </a:rPr>
              <a:t>-Mania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cKids"/>
              </a:rPr>
              <a:t>Super Fudge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7696080" y="1676520"/>
            <a:ext cx="728640" cy="11206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6400800" y="289548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khill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6172200" y="3505320"/>
            <a:ext cx="1533600" cy="16761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791320" y="533412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2.scholastic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2057400" y="914400"/>
            <a:ext cx="49528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6fcf"/>
                  </a:solidFill>
                  <a:miter/>
                </a:ln>
                <a:gradFill rotWithShape="0">
                  <a:gsLst>
                    <a:gs pos="0">
                      <a:srgbClr val="fefefe"/>
                    </a:gs>
                    <a:gs pos="100000">
                      <a:srgbClr val="944262"/>
                    </a:gs>
                  </a:gsLst>
                  <a:lin ang="5400000"/>
                </a:gradFill>
                <a:latin typeface="Arial Black"/>
              </a:rPr>
              <a:t>Author Bibliography</a:t>
            </a:r>
            <a:endParaRPr b="0" lang="en-US" sz="2400" spc="1" strike="noStrike">
              <a:ln w="9360">
                <a:solidFill>
                  <a:srgbClr val="ff6fcf"/>
                </a:solidFill>
                <a:miter/>
              </a:ln>
              <a:gradFill rotWithShape="0">
                <a:gsLst>
                  <a:gs pos="0">
                    <a:srgbClr val="fefefe"/>
                  </a:gs>
                  <a:gs pos="100000">
                    <a:srgbClr val="944262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77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8" dur="77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0" dur="77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2" dur="77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9T16:16:21Z</dcterms:created>
  <dc:creator>D83  User</dc:creator>
  <dc:description/>
  <dc:language>en-US</dc:language>
  <cp:lastModifiedBy>Default User</cp:lastModifiedBy>
  <dcterms:modified xsi:type="dcterms:W3CDTF">2010-12-06T16:09:58Z</dcterms:modified>
  <cp:revision>29</cp:revision>
  <dc:subject/>
  <dc:title>Otherwise Known as Sheila the Great Judy Blume</dc:title>
</cp:coreProperties>
</file>